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63725"/>
        <c:axId val="9651350"/>
      </c:barChart>
      <c:catAx>
        <c:axId val="60563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1350"/>
        <c:crosses val="autoZero"/>
        <c:auto val="1"/>
        <c:lblAlgn val="ctr"/>
        <c:lblOffset val="100"/>
        <c:noMultiLvlLbl val="0"/>
      </c:catAx>
      <c:valAx>
        <c:axId val="9651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63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D26-1DFA-42B1-956D-ED6D9F08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958-B02E-4606-912F-A75F61EF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027-1776-42C5-A0CB-3B38F466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FFD-554D-4D11-9BEA-C406FB5B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2EC-5F33-4AE8-A3D8-DAF1A6E3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352-5BF5-45E1-92E5-D9EE3CC4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AD2-79D2-4401-8ACB-96CAFF7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BC8-6C0F-414D-96C4-7F0F744C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1F5-25D4-475A-8507-5A004BE0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984-990E-42D9-AE07-D67CEB87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E99-2BB6-4E4E-9AA5-D0A50CAD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B3C-E8E9-4B9A-9661-C15F884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C8BF6-EAC1-4168-A4C1-27664A15D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